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ED0-F389-4C59-BB0B-2A3E5B74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241-0811-48BC-B87D-945AEC42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BC7-2E38-44BF-94B9-9B335AD8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0FA-26AF-4E3B-83D9-8A93072A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85C-55F8-4B2C-8875-150DF804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0FB-7C67-491D-89B6-C27E757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06D-A604-49B4-A339-7792D636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B6B-8C78-46AE-8DA7-ADE79BE1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551-A381-4495-A16E-07D50586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643-4986-4BDF-BB4D-2DE91DBD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5DC-AF61-408A-A10E-52C543A4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20E-125D-449E-B3DA-23CBBC6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298A-4E8A-4474-AF59-F7473ED12EA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94A-4AD9-4DEF-BB97-CDE7200E0C3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456360" y="2569320"/>
            <a:ext cx="220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验活动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溶质质量分数的氯化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溶液的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九单元 溶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9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3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019160" y="3790800"/>
            <a:ext cx="734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托盘天平、烧杯、量筒、玻璃棒、药匙、胶头滴管。氯化钠、蒸馏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31640" y="965160"/>
            <a:ext cx="6337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验目的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116000" y="1619280"/>
            <a:ext cx="69134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练习配制一定溶质质量分数的溶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深对溶质的质量分数概念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870120" y="32338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验用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84360" y="536400"/>
            <a:ext cx="68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验探究：配制一定溶质质量分数的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配制一定溶质质量分数的溶液" descr=""/>
          <p:cNvPicPr/>
          <p:nvPr/>
        </p:nvPicPr>
        <p:blipFill>
          <a:blip r:embed="rId1"/>
          <a:stretch/>
        </p:blipFill>
        <p:spPr>
          <a:xfrm>
            <a:off x="1282680" y="1098720"/>
            <a:ext cx="65548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1" descr=""/>
          <p:cNvPicPr/>
          <p:nvPr/>
        </p:nvPicPr>
        <p:blipFill>
          <a:blip r:embed="rId1"/>
          <a:stretch/>
        </p:blipFill>
        <p:spPr>
          <a:xfrm>
            <a:off x="853920" y="3213000"/>
            <a:ext cx="73915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2"/>
          <p:cNvGrpSpPr/>
          <p:nvPr/>
        </p:nvGrpSpPr>
        <p:grpSpPr>
          <a:xfrm>
            <a:off x="612720" y="4797360"/>
            <a:ext cx="2951280" cy="1426680"/>
            <a:chOff x="612720" y="4797360"/>
            <a:chExt cx="2951280" cy="1426680"/>
          </a:xfrm>
        </p:grpSpPr>
        <p:sp>
          <p:nvSpPr>
            <p:cNvPr id="77" name="Line 23"/>
            <p:cNvSpPr/>
            <p:nvPr/>
          </p:nvSpPr>
          <p:spPr>
            <a:xfrm>
              <a:off x="1450800" y="4797360"/>
              <a:ext cx="0" cy="92196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612720" y="5764320"/>
              <a:ext cx="29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注意药品的名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5"/>
          <p:cNvGrpSpPr/>
          <p:nvPr/>
        </p:nvGrpSpPr>
        <p:grpSpPr>
          <a:xfrm>
            <a:off x="2268360" y="4149720"/>
            <a:ext cx="2737080" cy="1729800"/>
            <a:chOff x="2268360" y="4149720"/>
            <a:chExt cx="2737080" cy="1729800"/>
          </a:xfrm>
        </p:grpSpPr>
        <p:sp>
          <p:nvSpPr>
            <p:cNvPr id="80" name="Line 26"/>
            <p:cNvSpPr/>
            <p:nvPr/>
          </p:nvSpPr>
          <p:spPr>
            <a:xfrm>
              <a:off x="2579400" y="4149720"/>
              <a:ext cx="870840" cy="12222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3325320" y="4149720"/>
              <a:ext cx="124920" cy="11988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8"/>
            <p:cNvSpPr/>
            <p:nvPr/>
          </p:nvSpPr>
          <p:spPr>
            <a:xfrm>
              <a:off x="2268360" y="541980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左“物”右“码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9"/>
          <p:cNvGrpSpPr/>
          <p:nvPr/>
        </p:nvGrpSpPr>
        <p:grpSpPr>
          <a:xfrm>
            <a:off x="5437080" y="4221000"/>
            <a:ext cx="3240000" cy="1524960"/>
            <a:chOff x="5437080" y="4221000"/>
            <a:chExt cx="3240000" cy="1524960"/>
          </a:xfrm>
        </p:grpSpPr>
        <p:sp>
          <p:nvSpPr>
            <p:cNvPr id="84" name="Line 30"/>
            <p:cNvSpPr/>
            <p:nvPr/>
          </p:nvSpPr>
          <p:spPr>
            <a:xfrm>
              <a:off x="6392880" y="4221000"/>
              <a:ext cx="147960" cy="10440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1"/>
            <p:cNvSpPr/>
            <p:nvPr/>
          </p:nvSpPr>
          <p:spPr>
            <a:xfrm>
              <a:off x="5437080" y="528624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选用适合量程的量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20"/>
          <p:cNvSpPr/>
          <p:nvPr/>
        </p:nvSpPr>
        <p:spPr>
          <a:xfrm>
            <a:off x="1071720" y="2344680"/>
            <a:ext cx="546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实验操作中应该注意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114560" y="1652760"/>
            <a:ext cx="61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配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527040" y="888840"/>
            <a:ext cx="8971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90160" y="1044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托盘天平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71480" y="2876400"/>
            <a:ext cx="7632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用前要调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两个托盘上各放一张大小相同的称量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称量时遵循左物右码的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镊子夹取砝码应按照从大到小的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称量完毕应将砝码放回盒中，游码归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天平"/>
          <p:cNvPicPr/>
          <p:nvPr/>
        </p:nvPicPr>
        <p:blipFill>
          <a:blip r:embed="rId1"/>
          <a:stretch/>
        </p:blipFill>
        <p:spPr>
          <a:xfrm>
            <a:off x="4843440" y="1111320"/>
            <a:ext cx="38797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2280" y="146952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配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氯化钠溶液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39800" y="229536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计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   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39800" y="3057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＿＿＿＿称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盐，放入烧杯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739800" y="3917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量取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＿＿量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m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，倒入盛有氯化钠的烧杯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739800" y="5213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溶解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玻璃棒搅拌，使氯化钠溶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257640" y="22654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330880" y="22654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941480" y="30002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托盘天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2300400" y="386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量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03120" y="787320"/>
            <a:ext cx="633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验步骤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60360" y="1552680"/>
            <a:ext cx="8370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用已配好的质量分数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氯化钠溶液（密度约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04g/cm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配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质量分数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氯化钠溶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96720" y="3112920"/>
            <a:ext cx="26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152800" y="307548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氯化钠溶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体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556160" y="3067200"/>
            <a:ext cx="7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09920" y="380376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143160" y="344340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96720" y="454176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量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160720" y="4483080"/>
            <a:ext cx="691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量筒量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氯化钠溶液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水，倒入烧杯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71520" y="55389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混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222640" y="5522760"/>
            <a:ext cx="51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玻璃棒搅拌，使溶液混合均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797440" y="3070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g×3%÷6%=25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473800" y="340344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g÷1.04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4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473800" y="38354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g=25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77920" y="771480"/>
            <a:ext cx="8231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配制质量分数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％的氯化钠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5"/>
          <p:cNvSpPr/>
          <p:nvPr/>
        </p:nvSpPr>
        <p:spPr>
          <a:xfrm>
            <a:off x="519120" y="1332000"/>
            <a:ext cx="810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配制好的上述两种氯化钠溶液分别装入试剂瓶中，盖好瓶塞并贴上标签（标签中应包括药品名称和溶液中溶质的质量分数），放到试剂柜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6120" y="1198440"/>
            <a:ext cx="838512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造成实际值偏小的可能原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溶质溶解的量变少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质本身不纯；左码右物称量；天平空载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向左偏；溶质有撒落；溶质没有完全溶解就装瓶存放了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溶剂的量增多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仰视量取；烧杯内壁上有水；试剂瓶内壁上有水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造成实际值偏大的可能原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溶剂的量减少了：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俯视量取溶剂；量取的水没有完全转移到烧杯中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溶质溶解的量变多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平空载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向右偏；称量时，所用砝码已生锈或沾有油污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136440" y="5889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经典空趣体简"/>
              </a:rPr>
              <a:t>问题与交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0:26:56Z</dcterms:modified>
  <cp:revision>3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